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jpeg" ContentType="image/jpeg"/>
  <Override PartName="/ppt/media/image4.jpeg" ContentType="image/jpeg"/>
  <Override PartName="/ppt/media/image5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4C0-4B9E-4A83-B6E1-13BEC1F8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76D-065E-46F7-B397-3559403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FC2-43C1-44EE-983D-B405E78D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466-5C00-4DCF-86F1-DE614344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125-FF6F-4D5B-BD9D-DDEC8367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D0F9-14B6-4766-8CDE-9DB540F1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E757-2DDD-4EAA-B886-CD03B67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B9ED-CAD6-4837-B100-BA181CC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8B23-E422-4755-B9B2-5CCC11D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387-6036-413E-8AB6-57B49B29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738B-AE87-43CD-986D-A83D0E3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FCD-F618-4067-B6D9-E53E07C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917F-1A15-47DC-893E-9B129F2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024F-70CC-411C-96D1-59D0517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E9B7-2882-4118-AA5D-7BEC09A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C57-0BD8-41EC-9710-C52C5FC4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BA4F-509C-4D11-95CB-799AE5C4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BF3-9E39-4289-99F3-8F6E9C89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931-CDD9-43CE-94AB-F4C2BECD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FAC-D15B-4808-9586-395D2CF8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BA1-2788-4DBF-BDD4-94C329EE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5B2-509C-418C-A920-0F7C2B74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979-AD11-4BD6-BC77-2B58F1B8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643-51BE-4ED6-9FCF-8A6535C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5A7F-5EA2-43BA-80DE-E21710B6C7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E39F-65F3-4011-9F10-29B68A6DF3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"/>
              </a:rPr>
              <a:t>Poets write from their heart and share what is important to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9880" y="1077840"/>
            <a:ext cx="44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3840" y="185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101600"/>
            <a:ext cx="7010280" cy="5519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You heart map might look like this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2286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Or it might look lik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517680"/>
            <a:ext cx="7620120" cy="596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43000" y="457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Or it might look like Nancy Atwell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He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If you don’t like valentines hearts you might want to use one that anatomically correc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5551200" cy="6286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It doesn’t matter which heart you chose, but dig in and reveal what affects your he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Poetry is a genre that allows the author to share their inner vision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ere do you think the topics for these poems come fr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es from what is inside our he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172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tino"/>
              </a:rPr>
              <a:t>It comes from what is inside our  hear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Nancy Atwell says, “Of all the genres, poetry is the one that is made for feelings.  It expresses my needs, dreams and emotion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e next step is exploring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Palatino"/>
                <a:ea typeface="ＭＳ Ｐゴシック"/>
              </a:rPr>
              <a:t>your</a:t>
            </a:r>
            <a:r>
              <a:rPr b="0" lang="en-US" sz="4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dreams, emotions, and nee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2860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447920"/>
            <a:ext cx="685800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o are the people you really ca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at are the places you really ca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ich memories have stayed with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at are happy, sad, scared, jealous, lonely times that you rem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at things do you l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at things bring you com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at connects you to other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at are your dre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o help you get started think about what  really affects your heart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sk yoursel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Now you are ready to make your heart  map .  Remember to keep the most important things in the center of your hear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"/>
              </a:rPr>
              <a:t>Your heart map can take different forms as long as you consider the things that mat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3:12:05Z</dcterms:created>
  <dc:creator>AAPS</dc:creator>
  <dc:description/>
  <dc:language>en-US</dc:language>
  <cp:lastModifiedBy>Chuck Hatt</cp:lastModifiedBy>
  <dcterms:modified xsi:type="dcterms:W3CDTF">2006-03-27T20:08:07Z</dcterms:modified>
  <cp:revision>36</cp:revision>
  <dc:subject/>
  <dc:title>PowerPoint Presentation</dc:title>
</cp:coreProperties>
</file>